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3B2-F956-4F6E-97BC-D2DAF0B9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C2C-76D5-4BAA-B628-1AD8913C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634-D36C-4639-B277-179CBECA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8E3-051C-4D01-B79A-B9AE86A6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257-E945-4C85-A44F-28A60B9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19E-635B-4DDC-B092-5AC856E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E13-A2F3-4A3D-BC9D-87C0F16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99D-8DB1-423D-A4D0-DB228873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47D-4666-4920-B308-BB8F771B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AF0-5E2D-4C16-8EF9-29EC606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4AF-FE2D-4966-84C4-E479F8D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F53-8536-4C7E-B03F-04DCA82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F0F6-B4C3-4835-828A-BCEDCB960C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42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3840" y="1012680"/>
            <a:ext cx="481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3049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son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eijing is gre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8968"/>
          <a:stretch/>
        </p:blipFill>
        <p:spPr>
          <a:xfrm>
            <a:off x="152280" y="0"/>
            <a:ext cx="89917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9720" y="609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iHai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-6000"/>
          </a:blip>
          <a:srcRect l="0" t="0" r="0" b="4167"/>
          <a:stretch/>
        </p:blipFill>
        <p:spPr>
          <a:xfrm>
            <a:off x="0" y="-452520"/>
            <a:ext cx="10820520" cy="700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10080" y="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an ’anmen    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22096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295280"/>
            <a:ext cx="6248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an ’anmen Square in Beij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an ’anmen  Square is very fa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63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81280" y="304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lace Muse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6765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1828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286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15238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lace Museum in Beij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t is very old and beauti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ijing is grea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343400" cy="288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5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3809880"/>
            <a:ext cx="3886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eijing is a big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has shops, restaurant and hot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094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33520"/>
            <a:ext cx="190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7339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Calibri"/>
              </a:rPr>
              <a:t>Let’s chan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76964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ike to d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zoo,wanch a kangar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lik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ho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buy a do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lik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staura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eat a d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lik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t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have a 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ove to d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Go on a trip, to a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do you want to 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Go on a trip, to Beijin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 do you go to Beij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alibri"/>
              </a:rPr>
              <a:t>It's the capital,and so grea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54709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roup Work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组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838080"/>
            <a:ext cx="8610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go on a tri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ant to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o 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____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.S.  U.K. Canada, Australi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ant to ___and___to 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2240" y="42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581280"/>
            <a:ext cx="8610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长给出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位组员必须用以上三个句子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长纠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alibri"/>
              </a:rPr>
              <a:t>Fill in the blank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9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iMing wants to go on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o Beijing. He wants             and            to come, too. Beijing is the                   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It's a big city. It has m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nd             . In Beijing,                                     is very famous.                                      is old and                 . Li Ming feels Beijing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! D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17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2276640"/>
            <a:ext cx="1439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2276640"/>
            <a:ext cx="129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924280"/>
            <a:ext cx="1298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50208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149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149720"/>
            <a:ext cx="244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41497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4724280"/>
            <a:ext cx="4249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5302080"/>
            <a:ext cx="446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659772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6160" y="10526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a  tr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8520" y="16286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Da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92560" y="1628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0520" y="227664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capital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2760" y="28526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760" y="350208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sh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08520" y="350208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restaur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720" y="35020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hot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1440" y="4076640"/>
            <a:ext cx="43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Tian'anmen 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55920" y="472428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The Palace Mus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950080"/>
            <a:ext cx="12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170028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8880" y="530064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29257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Do exercis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反义词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去旅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反义词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城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反义词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伟大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p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复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著名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复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            hav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5780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alibri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82880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宋体"/>
              </a:rPr>
              <a:t>(1)Say and write something about your hometown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(my hometown, an old city, beautiful, shop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restaurants, hotels, parks, squares.....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(2)Listen and r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4648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281916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does Beijing have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838080" y="0"/>
            <a:ext cx="9829440" cy="6840360"/>
            <a:chOff x="-838080" y="0"/>
            <a:chExt cx="9829440" cy="68403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-838080" y="0"/>
              <a:ext cx="9829440" cy="68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508320" y="3743280"/>
              <a:ext cx="3830040" cy="87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微软雅黑"/>
                </a:rPr>
                <a:t>Tourist Bus</a:t>
              </a:r>
              <a:endParaRPr b="1" i="1" lang="en-US" sz="6000" spc="-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380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et's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go on a trip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to Beij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12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2746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reat W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82080" cy="668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ter  Cu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7261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81480" y="5335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d’s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5656"/>
          <a:stretch/>
        </p:blipFill>
        <p:spPr>
          <a:xfrm>
            <a:off x="0" y="115920"/>
            <a:ext cx="8978760" cy="636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iangShan P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82080" cy="6862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04920" y="5105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king Unive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6094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8088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e Summer Pala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</cp:lastModifiedBy>
  <dcterms:modified xsi:type="dcterms:W3CDTF">2018-08-17T04:37:11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